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45811-8382-46C0-A907-B6475164FB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92160" y="76824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32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2640" y="54900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32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2640" y="3858480"/>
            <a:ext cx="294372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39240"/>
            <a:ext cx="716292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040" y="385848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040" y="549000"/>
            <a:ext cx="446148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58480"/>
            <a:ext cx="9142560" cy="30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7162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549000"/>
            <a:ext cx="91425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39960" y="65390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62A1B7-9185-42BC-9D5C-0C221EDA92C1}" type="slidenum">
              <a:rPr b="0" lang="en-GB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600" y="6561000"/>
            <a:ext cx="60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DSA Group       </a:t>
            </a:r>
            <a:r>
              <a:rPr b="1" lang="en-GB" sz="1400" spc="-1" strike="noStrike">
                <a:solidFill>
                  <a:srgbClr val="32425d"/>
                </a:solidFill>
                <a:latin typeface="Arial"/>
              </a:rPr>
              <a:t>                                    The GridWay Incubator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88240" y="71280"/>
            <a:ext cx="1130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83720" y="15840"/>
            <a:ext cx="206280" cy="2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16840" y="317520"/>
            <a:ext cx="147960" cy="160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658360" y="298440"/>
            <a:ext cx="176040" cy="193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13800" y="106200"/>
            <a:ext cx="307800" cy="320760"/>
          </a:xfrm>
          <a:prstGeom prst="ellipse">
            <a:avLst/>
          </a:prstGeom>
          <a:noFill/>
          <a:ln w="2844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39960" y="65390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92F88-8455-4559-A1C2-434014844FF6}" type="slidenum">
              <a:rPr b="0" lang="en-GB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32425d"/>
                </a:solidFill>
                <a:latin typeface="Arial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00000" indent="-179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171440" indent="-903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4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5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6" marL="187812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0520" y="2938320"/>
            <a:ext cx="8097840" cy="62532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9360" y="4822920"/>
            <a:ext cx="603360" cy="60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08520" y="4862520"/>
            <a:ext cx="574560" cy="604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6240" y="371016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gnacio M. Llo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http://asds.dacya.ucm.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43880" y="189000"/>
            <a:ext cx="466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TC11:  The Globus Incubation Management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GridWorld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Washington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"/>
              </a:rPr>
              <a:t>September 1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4440" y="5575320"/>
            <a:ext cx="35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tributed Systems Architectur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13280" y="1566720"/>
            <a:ext cx="341280" cy="3333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02240" y="1413000"/>
            <a:ext cx="617400" cy="62856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02320" y="2233440"/>
            <a:ext cx="439560" cy="43848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184480"/>
            <a:ext cx="528480" cy="525240"/>
          </a:xfrm>
          <a:prstGeom prst="ellipse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89240" y="1658880"/>
            <a:ext cx="927360" cy="876240"/>
          </a:xfrm>
          <a:prstGeom prst="ellipse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907920"/>
            <a:ext cx="8785440" cy="537696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90440" y="1341360"/>
            <a:ext cx="8569440" cy="4656240"/>
            <a:chOff x="190440" y="1341360"/>
            <a:chExt cx="8569440" cy="4656240"/>
          </a:xfrm>
        </p:grpSpPr>
        <p:sp>
          <p:nvSpPr>
            <p:cNvPr id="339" name=""/>
            <p:cNvSpPr/>
            <p:nvPr/>
          </p:nvSpPr>
          <p:spPr>
            <a:xfrm>
              <a:off x="190440" y="1341360"/>
              <a:ext cx="8569440" cy="465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"/>
                </a:rPr>
                <a:t>                                  </a:t>
              </a:r>
              <a:r>
                <a:rPr b="1" lang="en-GB" sz="1600" spc="-1" strike="noStrike">
                  <a:solidFill>
                    <a:srgbClr val="003366"/>
                  </a:solidFill>
                  <a:latin typeface="Arial"/>
                </a:rPr>
                <a:t>GLOBUS GRID INFRA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0" name=""/>
            <p:cNvCxnSpPr/>
            <p:nvPr/>
          </p:nvCxnSpPr>
          <p:spPr>
            <a:xfrm>
              <a:off x="1979640" y="4370400"/>
              <a:ext cx="1308960" cy="550080"/>
            </a:xfrm>
            <a:prstGeom prst="bentConnector3">
              <a:avLst>
                <a:gd name="adj1" fmla="val 49986"/>
              </a:avLst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/>
            <p:nvPr/>
          </p:nvCxnSpPr>
          <p:spPr>
            <a:xfrm>
              <a:off x="2036880" y="4362480"/>
              <a:ext cx="3015360" cy="575280"/>
            </a:xfrm>
            <a:prstGeom prst="bentConnector3">
              <a:avLst>
                <a:gd name="adj1" fmla="val 49994"/>
              </a:avLst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 flipV="1">
              <a:off x="660240" y="3894120"/>
              <a:ext cx="1800" cy="48096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/>
            <p:nvPr/>
          </p:nvCxnSpPr>
          <p:spPr>
            <a:xfrm>
              <a:off x="2376000" y="4468680"/>
              <a:ext cx="2520" cy="43272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/>
            <p:nvPr/>
          </p:nvCxnSpPr>
          <p:spPr>
            <a:xfrm>
              <a:off x="2433240" y="4484520"/>
              <a:ext cx="1251720" cy="45000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/>
            <p:nvPr/>
          </p:nvCxnSpPr>
          <p:spPr>
            <a:xfrm>
              <a:off x="2358720" y="4484160"/>
              <a:ext cx="3089880" cy="46116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46" name=""/>
            <p:cNvSpPr/>
            <p:nvPr/>
          </p:nvSpPr>
          <p:spPr>
            <a:xfrm flipV="1">
              <a:off x="1943280" y="3882960"/>
              <a:ext cx="1440" cy="379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28800" y="5326200"/>
              <a:ext cx="1136520" cy="160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SOURCE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28800" y="5133960"/>
              <a:ext cx="1136520" cy="1602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GE Clu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59000" y="4940280"/>
              <a:ext cx="339840" cy="160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24040" y="4940280"/>
              <a:ext cx="341280" cy="160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35280" y="4940280"/>
              <a:ext cx="396720" cy="1602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4340160"/>
              <a:ext cx="1440" cy="55260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35240" y="533412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SOURCE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35240" y="514044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BS Clu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65440" y="4948200"/>
              <a:ext cx="339840" cy="158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32280" y="4948200"/>
              <a:ext cx="341280" cy="158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43160" y="4948200"/>
              <a:ext cx="397080" cy="1587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06800" y="533412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SOURCE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06800" y="5140440"/>
              <a:ext cx="1136880" cy="158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SF Clu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5560" y="4948200"/>
              <a:ext cx="341280" cy="158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02400" y="4948200"/>
              <a:ext cx="341280" cy="158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11840" y="4948200"/>
              <a:ext cx="398520" cy="1587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0600" y="3564000"/>
              <a:ext cx="568080" cy="318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7480" y="3564000"/>
              <a:ext cx="568440" cy="31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84360" y="3564000"/>
              <a:ext cx="682560" cy="318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95360" y="3564000"/>
              <a:ext cx="654120" cy="3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8520" y="3324240"/>
              <a:ext cx="2550960" cy="2142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idWay daem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43480" y="3560760"/>
              <a:ext cx="568440" cy="318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0360" y="3560760"/>
              <a:ext cx="568440" cy="3189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37240" y="3560760"/>
              <a:ext cx="682560" cy="318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48600" y="3560760"/>
              <a:ext cx="654120" cy="3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51400" y="3321000"/>
              <a:ext cx="2551320" cy="2142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GridWay daem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51400" y="2232000"/>
              <a:ext cx="56376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6720" y="199224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1360" y="199224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24600" y="2232000"/>
              <a:ext cx="56340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613480" y="2444400"/>
              <a:ext cx="144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88120" y="2444400"/>
              <a:ext cx="144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654520" y="3887280"/>
              <a:ext cx="1800" cy="48132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262560" y="3876480"/>
              <a:ext cx="1800" cy="5871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937200" y="3876480"/>
              <a:ext cx="1800" cy="37908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06560" y="4257720"/>
              <a:ext cx="5065920" cy="1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6600" y="4487760"/>
              <a:ext cx="5065920" cy="18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8560" y="4362480"/>
              <a:ext cx="5065920" cy="14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268280" y="3882960"/>
              <a:ext cx="1800" cy="5875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/>
            <p:nvPr/>
          </p:nvCxnSpPr>
          <p:spPr>
            <a:xfrm flipV="1" rot="10800000">
              <a:off x="2718720" y="4255560"/>
              <a:ext cx="908640" cy="64548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/>
            <p:nvPr/>
          </p:nvCxnSpPr>
          <p:spPr>
            <a:xfrm>
              <a:off x="3003480" y="4255560"/>
              <a:ext cx="1024560" cy="662760"/>
            </a:xfrm>
            <a:prstGeom prst="bentConnector3">
              <a:avLst>
                <a:gd name="adj1" fmla="val 49982"/>
              </a:avLst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/>
            <p:nvPr/>
          </p:nvCxnSpPr>
          <p:spPr>
            <a:xfrm>
              <a:off x="2831760" y="4255560"/>
              <a:ext cx="2958120" cy="683640"/>
            </a:xfrm>
            <a:prstGeom prst="bentConnector3">
              <a:avLst>
                <a:gd name="adj1" fmla="val 50000"/>
              </a:avLst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5303160" y="17017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LIENT HO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0240" y="1700280"/>
              <a:ext cx="2565360" cy="2195280"/>
            </a:xfrm>
            <a:prstGeom prst="roundRect">
              <a:avLst>
                <a:gd name="adj" fmla="val 3176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93080" y="136224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IT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7835400" y="18856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71760" y="47512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 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25920" y="529416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920" y="2894040"/>
              <a:ext cx="563760" cy="214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18240" y="259380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8440" y="2894040"/>
              <a:ext cx="563400" cy="214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3760" y="259380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62120" y="2892600"/>
              <a:ext cx="563400" cy="212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57440" y="259236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5840" y="2892600"/>
              <a:ext cx="563400" cy="212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51160" y="259236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1760" y="2232000"/>
              <a:ext cx="56340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720" y="1992240"/>
              <a:ext cx="56844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71720" y="1992240"/>
              <a:ext cx="568080" cy="212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USER 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76400" y="2232000"/>
              <a:ext cx="563400" cy="2127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LI &amp; AP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3480" y="2444400"/>
              <a:ext cx="180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338120" y="2444400"/>
              <a:ext cx="1800" cy="8175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3160" y="17017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LIENT HO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0600" y="1700280"/>
              <a:ext cx="2565360" cy="2195280"/>
            </a:xfrm>
            <a:prstGeom prst="roundRect">
              <a:avLst>
                <a:gd name="adj" fmla="val 3176"/>
              </a:avLst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1640" y="136224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IT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5920" y="2852640"/>
              <a:ext cx="82659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920" y="4143240"/>
              <a:ext cx="82659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5920" y="5124600"/>
              <a:ext cx="8265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7694280" y="3237120"/>
              <a:ext cx="146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Site-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33200" y="631800"/>
            <a:ext cx="33591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Partner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9280" y="907920"/>
            <a:ext cx="8785440" cy="537696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" y="631800"/>
            <a:ext cx="3934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Outsourced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41348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39600"/>
            <a:ext cx="71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. State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903240"/>
            <a:ext cx="8713800" cy="1689120"/>
          </a:xfrm>
          <a:prstGeom prst="roundRect">
            <a:avLst>
              <a:gd name="adj" fmla="val 3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8000" y="720720"/>
            <a:ext cx="3024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History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2160720"/>
            <a:ext cx="6696000" cy="36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1230480"/>
            <a:ext cx="847224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ed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20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first releases were only distributed on request in binary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open source version, GridWay 4.0, was released i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Jan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32425d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ridWay 5.0 was released in June 2006 (Apache license v2)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June 2006 GridWay joined th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Incubato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4040" y="3187800"/>
            <a:ext cx="8642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9280" y="3147840"/>
            <a:ext cx="8785440" cy="302436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7360" y="2851200"/>
            <a:ext cx="35910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ownloads &amp;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50920" y="335268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January 2005, downloaded more than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500 times from 54 different countri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25% are private companies and 75% are universities and research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Enterprise/Campus Grids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Activities at ESAC (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S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, Campus grid deployed by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e do Porto and Sun Microsystem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Partner Grids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IRIS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The Spanish National Grid Infrastructure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EG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AB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A Virtual Laboratory for Computational Astrobiology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2V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Grid infrastructure development for the implementation of a Computational Chemistry Virtual Organization)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CRO-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frastructure,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Sun Solution Center World Gr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4040" y="1103400"/>
            <a:ext cx="8642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1052640"/>
            <a:ext cx="8785440" cy="432108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7360" y="766800"/>
            <a:ext cx="7750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Requirements for the Success of a Grid Technology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2967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Non-intrusive deploymen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peed up adop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a</a:t>
            </a:r>
            <a:r>
              <a:rPr b="0" lang="en-GB" sz="1800" spc="-1" strike="noStrike">
                <a:solidFill>
                  <a:srgbClr val="32425d"/>
                </a:solidFill>
                <a:latin typeface="Arial"/>
              </a:rPr>
              <a:t> smooth integration does not require to change current system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Adoption of standard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peed up adop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integration is faster and che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Development of an open-source community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 (open-source software + open development processes and collaborative infrastructure) 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Provide long-term stability and supp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 the proje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32425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mprove its robustness and qu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nks to a greater variety of technical visions, solutions, an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428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. Why We Wanted to Be an Incubato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450040" y="2349360"/>
            <a:ext cx="3528720" cy="792360"/>
          </a:xfrm>
          <a:prstGeom prst="rect">
            <a:avLst/>
          </a:prstGeom>
          <a:solidFill>
            <a:srgbClr val="ffffcc"/>
          </a:solidFill>
          <a:ln w="381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11280" y="3141720"/>
            <a:ext cx="3024360" cy="1079280"/>
          </a:xfrm>
          <a:prstGeom prst="rect">
            <a:avLst/>
          </a:prstGeom>
          <a:solidFill>
            <a:srgbClr val="ffffcc"/>
          </a:solidFill>
          <a:ln w="381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16000" y="1125360"/>
            <a:ext cx="8821800" cy="5005440"/>
            <a:chOff x="216000" y="1125360"/>
            <a:chExt cx="8821800" cy="5005440"/>
          </a:xfrm>
        </p:grpSpPr>
        <p:sp>
          <p:nvSpPr>
            <p:cNvPr id="441" name=""/>
            <p:cNvSpPr/>
            <p:nvPr/>
          </p:nvSpPr>
          <p:spPr>
            <a:xfrm>
              <a:off x="826920" y="5060880"/>
              <a:ext cx="1584360" cy="106848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p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development 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6920" y="4237200"/>
              <a:ext cx="1584360" cy="82368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pen-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5640" y="4237200"/>
              <a:ext cx="36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ache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11280" y="4237200"/>
              <a:ext cx="3024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ache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35640" y="5060880"/>
              <a:ext cx="3600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11280" y="5060880"/>
              <a:ext cx="3024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ramework for open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development: dev.globus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6000" y="4237200"/>
              <a:ext cx="610920" cy="189216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pen-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35640" y="3168720"/>
              <a:ext cx="3600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RMAA-W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SA-R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11280" y="3168720"/>
              <a:ext cx="30243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is de facto standard for open source grid computing infrastructure, and adopts many GGF standa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6000" y="3168720"/>
              <a:ext cx="2195280" cy="106848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tandar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ado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35640" y="2344680"/>
              <a:ext cx="36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ridWay only requires Globus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11280" y="2344680"/>
              <a:ext cx="302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supports the existing platforms and resource manage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6000" y="2344680"/>
              <a:ext cx="2195280" cy="82404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Non-intrus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35640" y="1125360"/>
              <a:ext cx="36003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11280" y="1125360"/>
              <a:ext cx="30243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6000" y="1125360"/>
              <a:ext cx="21952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6000" y="2344680"/>
              <a:ext cx="2195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6000" y="316872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6000" y="4237200"/>
              <a:ext cx="882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6000" y="6129360"/>
              <a:ext cx="882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35640" y="1125360"/>
              <a:ext cx="1440" cy="500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036000" y="1125360"/>
              <a:ext cx="1800" cy="50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11280" y="1125360"/>
              <a:ext cx="1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26920" y="5060880"/>
              <a:ext cx="820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6920" y="4237200"/>
              <a:ext cx="180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11280" y="1125360"/>
              <a:ext cx="302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6000" y="2344680"/>
              <a:ext cx="1440" cy="82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6000" y="1125360"/>
              <a:ext cx="21952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35640" y="1125360"/>
              <a:ext cx="3600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11280" y="2344680"/>
              <a:ext cx="1800" cy="378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11280" y="2344680"/>
              <a:ext cx="662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6000" y="1125360"/>
              <a:ext cx="1440" cy="12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6000" y="3168720"/>
              <a:ext cx="1440" cy="296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513480" y="1339920"/>
            <a:ext cx="646200" cy="720720"/>
            <a:chOff x="6513480" y="1339920"/>
            <a:chExt cx="646200" cy="720720"/>
          </a:xfrm>
        </p:grpSpPr>
        <p:sp>
          <p:nvSpPr>
            <p:cNvPr id="475" name=""/>
            <p:cNvSpPr/>
            <p:nvPr/>
          </p:nvSpPr>
          <p:spPr>
            <a:xfrm>
              <a:off x="6558120" y="1425600"/>
              <a:ext cx="169560" cy="18576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1520" y="1339920"/>
              <a:ext cx="308160" cy="34920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02280" y="1795320"/>
              <a:ext cx="219240" cy="24300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13480" y="1768320"/>
              <a:ext cx="263520" cy="292320"/>
            </a:xfrm>
            <a:prstGeom prst="ellipse">
              <a:avLst/>
            </a:prstGeom>
            <a:solidFill>
              <a:srgbClr val="395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95920" y="1476360"/>
              <a:ext cx="463680" cy="4874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132000" y="1282680"/>
            <a:ext cx="1800360" cy="8539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7161120" y="1555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464080" y="5048280"/>
            <a:ext cx="3529080" cy="1067400"/>
            <a:chOff x="5464080" y="5048280"/>
            <a:chExt cx="3529080" cy="1067400"/>
          </a:xfrm>
        </p:grpSpPr>
        <p:sp>
          <p:nvSpPr>
            <p:cNvPr id="483" name=""/>
            <p:cNvSpPr/>
            <p:nvPr/>
          </p:nvSpPr>
          <p:spPr>
            <a:xfrm>
              <a:off x="5464080" y="5084640"/>
              <a:ext cx="3529080" cy="10083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242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87840" y="5048280"/>
              <a:ext cx="29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Globus Incubator Program is a great opportunity to be part of a healthy open-source commun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0" y="4428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. Why We Wanted to Be an Incubator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39600"/>
            <a:ext cx="71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. Benefits of Being Part of the Globus OSS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4680" y="996840"/>
            <a:ext cx="86421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946080"/>
            <a:ext cx="8785440" cy="3778200"/>
          </a:xfrm>
          <a:prstGeom prst="roundRect">
            <a:avLst>
              <a:gd name="adj" fmla="val 3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8000" y="690480"/>
            <a:ext cx="8407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Benefits Experienced since GridWay Is an Incubator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0280" y="1219320"/>
            <a:ext cx="8559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We have experienced feedbac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a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wider user community and greater varie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echnical visions and sugg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The project benefits from the Globus Development Philosophy and Guidelin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collaborative-open development and from the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lobus Development Infrastruc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nouncement/Commit/User/Developer Mailing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gz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cubator Program is a perfect environment for higher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gration with other Globus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The visibility of the project has been 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50920" y="171936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grateful to the Incubator Management Project, in particular to its current chai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nnifer Schop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nd to our Mentor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sa Child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their invaluable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2680" y="981000"/>
            <a:ext cx="8964720" cy="1727280"/>
          </a:xfrm>
          <a:prstGeom prst="roundRect">
            <a:avLst>
              <a:gd name="adj" fmla="val 4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2040" y="1308240"/>
            <a:ext cx="87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GB" sz="2400" spc="-1" strike="noStrike">
                <a:solidFill>
                  <a:srgbClr val="32425d"/>
                </a:solidFill>
                <a:latin typeface="Arial"/>
              </a:rPr>
              <a:t> GridWay Meta-schedul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2400" spc="-1" strike="noStrike">
                <a:solidFill>
                  <a:srgbClr val="32425d"/>
                </a:solidFill>
                <a:latin typeface="Arial"/>
              </a:rPr>
              <a:t>Why we want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an Incubato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2400" spc="-1" strike="noStrike">
                <a:solidFill>
                  <a:srgbClr val="32425d"/>
                </a:solidFill>
                <a:latin typeface="Arial"/>
              </a:rPr>
              <a:t>Benefits experienc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GridWay is an Incubato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400" y="774720"/>
            <a:ext cx="33969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Aims of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981000"/>
            <a:ext cx="8642520" cy="3311640"/>
          </a:xfrm>
          <a:prstGeom prst="roundRect">
            <a:avLst>
              <a:gd name="adj" fmla="val 4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1960" y="1238400"/>
            <a:ext cx="8501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s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and Major Features of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 to other Parts of Gl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of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 Wanted to be an Incubator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efits of Being Part of the Globus OS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400" y="765000"/>
            <a:ext cx="13809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GridWay Incubator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4284360" y="2062080"/>
            <a:ext cx="4535640" cy="3889440"/>
            <a:chOff x="4284360" y="2062080"/>
            <a:chExt cx="4535640" cy="3889440"/>
          </a:xfrm>
        </p:grpSpPr>
        <p:sp>
          <p:nvSpPr>
            <p:cNvPr id="113" name=""/>
            <p:cNvSpPr/>
            <p:nvPr/>
          </p:nvSpPr>
          <p:spPr>
            <a:xfrm rot="10800000">
              <a:off x="4284360" y="2062080"/>
              <a:ext cx="485640" cy="3889440"/>
            </a:xfrm>
            <a:prstGeom prst="upArrow">
              <a:avLst>
                <a:gd name="adj1" fmla="val 49676"/>
                <a:gd name="adj2" fmla="val 65035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80000" y="4869000"/>
              <a:ext cx="324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ransferring of intellectual contribution and technology is our way to create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076720" y="4582800"/>
              <a:ext cx="486000" cy="1368360"/>
            </a:xfrm>
            <a:prstGeom prst="upArrow">
              <a:avLst>
                <a:gd name="adj1" fmla="val 50000"/>
                <a:gd name="adj2" fmla="val 70389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71640" y="5950080"/>
            <a:ext cx="6624720" cy="1728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Aim of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3520" y="692280"/>
            <a:ext cx="30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0200" y="692280"/>
            <a:ext cx="26528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35200" y="898560"/>
            <a:ext cx="30657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11880" y="898560"/>
            <a:ext cx="26528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30200" y="727200"/>
            <a:ext cx="6193080" cy="117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ridWay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GridWay Project is a Research and Development effort that seeks to </a:t>
            </a:r>
            <a:r>
              <a:rPr b="1" i="1" lang="en-GB" sz="1600" spc="-1" strike="noStrike">
                <a:solidFill>
                  <a:srgbClr val="32425d"/>
                </a:solidFill>
                <a:latin typeface="Arial"/>
              </a:rPr>
              <a:t>advance the technology for meta-scheduling on grid environment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0600" y="3502080"/>
            <a:ext cx="30657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92640" y="3708360"/>
            <a:ext cx="30654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068640"/>
            <a:ext cx="7777080" cy="137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GridWay Meta-scheduler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GridWay Metascheduler is an </a:t>
            </a:r>
            <a:r>
              <a:rPr b="1" i="1" lang="en-GB" sz="1600" spc="-1" strike="noStrike">
                <a:solidFill>
                  <a:srgbClr val="32425d"/>
                </a:solidFill>
                <a:latin typeface="Arial"/>
              </a:rPr>
              <a:t>open source meta-scheduling technology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for Globus Grids that seeks to </a:t>
            </a:r>
            <a:r>
              <a:rPr b="1" i="1" lang="en-GB" sz="1600" spc="-1" strike="noStrike">
                <a:solidFill>
                  <a:srgbClr val="32425d"/>
                </a:solidFill>
                <a:latin typeface="Arial"/>
              </a:rPr>
              <a:t>enable reliable and efficient large-scale sharing of computing resources managed by different local resource managers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within a single organization or scattered across several administrative domain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76720" y="1992240"/>
            <a:ext cx="3745080" cy="1008000"/>
            <a:chOff x="5076720" y="1992240"/>
            <a:chExt cx="3745080" cy="1008000"/>
          </a:xfrm>
        </p:grpSpPr>
        <p:sp>
          <p:nvSpPr>
            <p:cNvPr id="127" name=""/>
            <p:cNvSpPr/>
            <p:nvPr/>
          </p:nvSpPr>
          <p:spPr>
            <a:xfrm>
              <a:off x="6137280" y="2781360"/>
              <a:ext cx="26528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8960" y="2987640"/>
              <a:ext cx="26528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1640" y="2133720"/>
              <a:ext cx="30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he results are incorporated as technological innovations into next rele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5076720" y="1992240"/>
              <a:ext cx="486000" cy="1008000"/>
            </a:xfrm>
            <a:prstGeom prst="upArrow">
              <a:avLst>
                <a:gd name="adj1" fmla="val 50000"/>
                <a:gd name="adj2" fmla="val 51852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60480" y="1916280"/>
            <a:ext cx="2801880" cy="1082520"/>
            <a:chOff x="960480" y="1916280"/>
            <a:chExt cx="2801880" cy="1082520"/>
          </a:xfrm>
        </p:grpSpPr>
        <p:sp>
          <p:nvSpPr>
            <p:cNvPr id="132" name=""/>
            <p:cNvSpPr/>
            <p:nvPr/>
          </p:nvSpPr>
          <p:spPr>
            <a:xfrm>
              <a:off x="3276720" y="1916280"/>
              <a:ext cx="485640" cy="1082520"/>
            </a:xfrm>
            <a:prstGeom prst="upArrow">
              <a:avLst>
                <a:gd name="adj1" fmla="val 50000"/>
                <a:gd name="adj2" fmla="val 55726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60480" y="2082960"/>
              <a:ext cx="2254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he GridWay Meta-scheduler is used to perform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44280" y="4508640"/>
            <a:ext cx="3806640" cy="1368360"/>
            <a:chOff x="-44280" y="4508640"/>
            <a:chExt cx="3806640" cy="1368360"/>
          </a:xfrm>
        </p:grpSpPr>
        <p:sp>
          <p:nvSpPr>
            <p:cNvPr id="135" name=""/>
            <p:cNvSpPr/>
            <p:nvPr/>
          </p:nvSpPr>
          <p:spPr>
            <a:xfrm>
              <a:off x="3276720" y="4508640"/>
              <a:ext cx="485640" cy="1368360"/>
            </a:xfrm>
            <a:prstGeom prst="upArrow">
              <a:avLst>
                <a:gd name="adj1" fmla="val 50000"/>
                <a:gd name="adj2" fmla="val 70441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44280" y="4857840"/>
              <a:ext cx="3298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eeds and requirements in components for grid meta-scheduling and utility computing are evaluated for next relea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0920" y="6095880"/>
            <a:ext cx="4664160" cy="398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Industry and Scientific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71640" y="5630760"/>
            <a:ext cx="4176720" cy="59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984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3683160"/>
            <a:ext cx="4176720" cy="19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387520"/>
            <a:ext cx="41767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819000"/>
            <a:ext cx="4176720" cy="156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238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3683160"/>
            <a:ext cx="4537080" cy="14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5627520"/>
            <a:ext cx="4537080" cy="18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2387520"/>
            <a:ext cx="180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5627520"/>
            <a:ext cx="1800" cy="59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3048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0480" y="2944800"/>
            <a:ext cx="180000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82840" y="5700600"/>
            <a:ext cx="647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984ff"/>
              </a:gs>
              <a:gs pos="50000">
                <a:srgbClr val="fefefe"/>
              </a:gs>
              <a:gs pos="100000">
                <a:srgbClr val="0984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49400" y="5862600"/>
            <a:ext cx="325440" cy="36720"/>
            <a:chOff x="1949400" y="5862600"/>
            <a:chExt cx="325440" cy="36720"/>
          </a:xfrm>
        </p:grpSpPr>
        <p:sp>
          <p:nvSpPr>
            <p:cNvPr id="151" name=""/>
            <p:cNvSpPr/>
            <p:nvPr/>
          </p:nvSpPr>
          <p:spPr>
            <a:xfrm>
              <a:off x="194940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3760" y="586260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38480" y="58626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357280" y="1214280"/>
            <a:ext cx="919440" cy="957600"/>
            <a:chOff x="2357280" y="1214280"/>
            <a:chExt cx="919440" cy="957600"/>
          </a:xfrm>
        </p:grpSpPr>
        <p:sp>
          <p:nvSpPr>
            <p:cNvPr id="155" name=""/>
            <p:cNvSpPr/>
            <p:nvPr/>
          </p:nvSpPr>
          <p:spPr>
            <a:xfrm>
              <a:off x="2428920" y="1214280"/>
              <a:ext cx="792000" cy="79236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4080" y="1279440"/>
              <a:ext cx="660240" cy="658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54120" y="1233360"/>
              <a:ext cx="34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$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7280" y="1442880"/>
              <a:ext cx="91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2440" y="2006640"/>
              <a:ext cx="264960" cy="13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28920" y="2138400"/>
              <a:ext cx="792000" cy="3348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08360" y="914400"/>
            <a:ext cx="1008000" cy="1295280"/>
            <a:chOff x="3708360" y="914400"/>
            <a:chExt cx="1008000" cy="1295280"/>
          </a:xfrm>
        </p:grpSpPr>
        <p:sp>
          <p:nvSpPr>
            <p:cNvPr id="162" name=""/>
            <p:cNvSpPr/>
            <p:nvPr/>
          </p:nvSpPr>
          <p:spPr>
            <a:xfrm>
              <a:off x="3708360" y="914400"/>
              <a:ext cx="100800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1960" y="946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80000" y="1379520"/>
              <a:ext cx="57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0000" y="152388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80000" y="1668600"/>
              <a:ext cx="64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80000" y="1811160"/>
              <a:ext cx="79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80000" y="1955880"/>
              <a:ext cx="21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074600" y="2475000"/>
            <a:ext cx="2129040" cy="431640"/>
          </a:xfrm>
          <a:prstGeom prst="downArrowCallout">
            <a:avLst>
              <a:gd name="adj1" fmla="val 64402"/>
              <a:gd name="adj2" fmla="val 60902"/>
              <a:gd name="adj3" fmla="val 35662"/>
              <a:gd name="adj4" fmla="val 3676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30320" y="890640"/>
            <a:ext cx="947880" cy="1370520"/>
            <a:chOff x="1030320" y="890640"/>
            <a:chExt cx="947880" cy="1370520"/>
          </a:xfrm>
        </p:grpSpPr>
        <p:sp>
          <p:nvSpPr>
            <p:cNvPr id="171" name=""/>
            <p:cNvSpPr/>
            <p:nvPr/>
          </p:nvSpPr>
          <p:spPr>
            <a:xfrm>
              <a:off x="1030320" y="1954080"/>
              <a:ext cx="85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.C, .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93680" y="917640"/>
              <a:ext cx="86364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2920" y="890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5840" y="132228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85840" y="146700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85840" y="161136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85840" y="1754280"/>
              <a:ext cx="57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2560" y="1849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.C, .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641400" y="57546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4097520" y="448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277880" y="13903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rot="5400000">
            <a:off x="3561480" y="2460240"/>
            <a:ext cx="792360" cy="108108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60360" y="3827520"/>
            <a:ext cx="1801800" cy="1584360"/>
          </a:xfrm>
          <a:custGeom>
            <a:avLst/>
            <a:gdLst/>
            <a:ahLst/>
            <a:rect l="l" t="t" r="r" b="b"/>
            <a:pathLst>
              <a:path w="1135" h="998">
                <a:moveTo>
                  <a:pt x="1" y="998"/>
                </a:moveTo>
                <a:cubicBezTo>
                  <a:pt x="1" y="998"/>
                  <a:pt x="568" y="998"/>
                  <a:pt x="1135" y="998"/>
                </a:cubicBezTo>
                <a:cubicBezTo>
                  <a:pt x="1134" y="699"/>
                  <a:pt x="636" y="699"/>
                  <a:pt x="636" y="544"/>
                </a:cubicBezTo>
                <a:cubicBezTo>
                  <a:pt x="636" y="544"/>
                  <a:pt x="636" y="498"/>
                  <a:pt x="636" y="453"/>
                </a:cubicBezTo>
                <a:cubicBezTo>
                  <a:pt x="648" y="291"/>
                  <a:pt x="1134" y="297"/>
                  <a:pt x="1135" y="0"/>
                </a:cubicBezTo>
                <a:cubicBezTo>
                  <a:pt x="568" y="0"/>
                  <a:pt x="1128" y="3"/>
                  <a:pt x="1" y="0"/>
                </a:cubicBezTo>
                <a:cubicBezTo>
                  <a:pt x="0" y="291"/>
                  <a:pt x="498" y="291"/>
                  <a:pt x="500" y="453"/>
                </a:cubicBezTo>
                <a:cubicBezTo>
                  <a:pt x="500" y="498"/>
                  <a:pt x="500" y="544"/>
                  <a:pt x="500" y="544"/>
                </a:cubicBezTo>
                <a:cubicBezTo>
                  <a:pt x="498" y="705"/>
                  <a:pt x="0" y="699"/>
                  <a:pt x="1" y="998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2600" y="445140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lo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262040" y="274140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 Me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194440" y="2665440"/>
            <a:ext cx="3889080" cy="912600"/>
            <a:chOff x="5194440" y="2665440"/>
            <a:chExt cx="3889080" cy="912600"/>
          </a:xfrm>
        </p:grpSpPr>
        <p:sp>
          <p:nvSpPr>
            <p:cNvPr id="187" name=""/>
            <p:cNvSpPr/>
            <p:nvPr/>
          </p:nvSpPr>
          <p:spPr>
            <a:xfrm>
              <a:off x="5908680" y="266544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95c75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395c75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395c75"/>
                  </a:solidFill>
                  <a:latin typeface="Arial"/>
                </a:rPr>
                <a:t>open source meta-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job execution manage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ource broker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94440" y="290196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9e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194440" y="1197000"/>
            <a:ext cx="3625560" cy="643320"/>
            <a:chOff x="5194440" y="1197000"/>
            <a:chExt cx="3625560" cy="643320"/>
          </a:xfrm>
        </p:grpSpPr>
        <p:sp>
          <p:nvSpPr>
            <p:cNvPr id="190" name=""/>
            <p:cNvSpPr/>
            <p:nvPr/>
          </p:nvSpPr>
          <p:spPr>
            <a:xfrm>
              <a:off x="5908680" y="1197000"/>
              <a:ext cx="29113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API (GGF DRMAA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 Line Interfa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4440" y="12985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219640" y="4202280"/>
            <a:ext cx="3313080" cy="912600"/>
            <a:chOff x="5219640" y="4202280"/>
            <a:chExt cx="3313080" cy="912600"/>
          </a:xfrm>
        </p:grpSpPr>
        <p:sp>
          <p:nvSpPr>
            <p:cNvPr id="193" name=""/>
            <p:cNvSpPr/>
            <p:nvPr/>
          </p:nvSpPr>
          <p:spPr>
            <a:xfrm>
              <a:off x="5219640" y="4438800"/>
              <a:ext cx="647640" cy="4330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08680" y="4202280"/>
              <a:ext cx="26240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lobus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andard inte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nd-to-end (e.g. TCP/IP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219640" y="5473800"/>
            <a:ext cx="3863880" cy="912600"/>
            <a:chOff x="5219640" y="5473800"/>
            <a:chExt cx="3863880" cy="912600"/>
          </a:xfrm>
        </p:grpSpPr>
        <p:sp>
          <p:nvSpPr>
            <p:cNvPr id="196" name=""/>
            <p:cNvSpPr/>
            <p:nvPr/>
          </p:nvSpPr>
          <p:spPr>
            <a:xfrm>
              <a:off x="5219640" y="5710320"/>
              <a:ext cx="647640" cy="433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984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08680" y="5473800"/>
              <a:ext cx="3174840" cy="912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ly dyna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igh faul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161040" y="1935000"/>
            <a:ext cx="2352600" cy="611280"/>
            <a:chOff x="6161040" y="1935000"/>
            <a:chExt cx="2352600" cy="611280"/>
          </a:xfrm>
        </p:grpSpPr>
        <p:sp>
          <p:nvSpPr>
            <p:cNvPr id="199" name=""/>
            <p:cNvSpPr/>
            <p:nvPr/>
          </p:nvSpPr>
          <p:spPr>
            <a:xfrm rot="5400000">
              <a:off x="7033320" y="2024640"/>
              <a:ext cx="611280" cy="43200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9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61040" y="2071800"/>
              <a:ext cx="23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 Scheduling Ste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08080" y="1349280"/>
            <a:ext cx="618840" cy="4795920"/>
            <a:chOff x="208080" y="1349280"/>
            <a:chExt cx="618840" cy="4795920"/>
          </a:xfrm>
        </p:grpSpPr>
        <p:sp>
          <p:nvSpPr>
            <p:cNvPr id="202" name=""/>
            <p:cNvSpPr/>
            <p:nvPr/>
          </p:nvSpPr>
          <p:spPr>
            <a:xfrm>
              <a:off x="463680" y="564192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8360" y="1349280"/>
              <a:ext cx="358560" cy="5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208080" y="1486080"/>
              <a:ext cx="287280" cy="4536720"/>
            </a:xfrm>
            <a:prstGeom prst="rect">
              <a:avLst/>
            </a:prstGeom>
            <a:solidFill>
              <a:srgbClr val="324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lication-Infrastructure decou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8820000" y="3211200"/>
            <a:ext cx="1800" cy="2739960"/>
          </a:xfrm>
          <a:prstGeom prst="line">
            <a:avLst/>
          </a:prstGeom>
          <a:ln w="28440">
            <a:solidFill>
              <a:srgbClr val="696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9600"/>
            <a:ext cx="716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Aim of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7280" y="884160"/>
            <a:ext cx="8713800" cy="132084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63480"/>
            <a:ext cx="39434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enefits for th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125360"/>
            <a:ext cx="871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gration of non-interoperable computational platfor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a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uniform and flexible infrastruc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hievement of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greater utilization of resources and higher application through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Benefits and Major Features of the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770200"/>
            <a:ext cx="8713800" cy="16524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2920" y="2549520"/>
            <a:ext cx="4267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enefits for Syste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4200" y="3011400"/>
            <a:ext cx="871380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upport for the existing platforms and resource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Allocation of grid re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ccording to management specified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nalysis of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trends in resource us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nitoring of 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user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4440" y="4957920"/>
            <a:ext cx="8713800" cy="129204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6440" y="4738680"/>
            <a:ext cx="68230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Benefits for End Users and Application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080" y="5199120"/>
            <a:ext cx="871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riendly CLI and a standard API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ubmission, control and monitoring of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 high throughput computing applications and abstract workflow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which may require file transferring and/or databas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884160"/>
            <a:ext cx="8713800" cy="16812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663480"/>
            <a:ext cx="3168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Workloa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103400"/>
            <a:ext cx="8713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cheduling 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support for new scheduling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Fault detection &amp; recovery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Accoun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ac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array jobs and job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3103560"/>
            <a:ext cx="8713800" cy="111600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2920" y="2882880"/>
            <a:ext cx="2052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2425d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200" y="3344760"/>
            <a:ext cx="871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support for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C and JAVA DRMA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GGF stand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Command line interfa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imilar to that found on local D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727520"/>
            <a:ext cx="8713800" cy="1365480"/>
          </a:xfrm>
          <a:prstGeom prst="roundRect">
            <a:avLst>
              <a:gd name="adj" fmla="val 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2920" y="4506840"/>
            <a:ext cx="17272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4200" y="4968720"/>
            <a:ext cx="871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Straightforward deploym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new services are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face with </a:t>
            </a: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new grid servi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20000"/>
              </a:lnSpc>
              <a:buClr>
                <a:srgbClr val="32425d"/>
              </a:buClr>
              <a:buFont typeface="Arial"/>
              <a:buChar char="•"/>
              <a:tabLst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515600"/>
              </a:tabLst>
            </a:pPr>
            <a:r>
              <a:rPr b="1" lang="en-GB" sz="1800" spc="-1" strike="noStrike">
                <a:solidFill>
                  <a:srgbClr val="32425d"/>
                </a:solidFill>
                <a:latin typeface="Arial"/>
              </a:rPr>
              <a:t>interoper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tween different infrastructures (GT WS, GT pre-WS, EGEE…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Benefits and Major Features of the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-37080" y="620640"/>
            <a:ext cx="6171120" cy="3754080"/>
            <a:chOff x="-37080" y="620640"/>
            <a:chExt cx="6171120" cy="3754080"/>
          </a:xfrm>
        </p:grpSpPr>
        <p:sp>
          <p:nvSpPr>
            <p:cNvPr id="230" name=""/>
            <p:cNvSpPr/>
            <p:nvPr/>
          </p:nvSpPr>
          <p:spPr>
            <a:xfrm>
              <a:off x="1290600" y="1214280"/>
              <a:ext cx="4843440" cy="3133800"/>
            </a:xfrm>
            <a:custGeom>
              <a:avLst/>
              <a:gdLst/>
              <a:ahLst/>
              <a:rect l="l" t="t" r="r" b="b"/>
              <a:pathLst>
                <a:path w="3051" h="1974">
                  <a:moveTo>
                    <a:pt x="0" y="0"/>
                  </a:moveTo>
                  <a:lnTo>
                    <a:pt x="5" y="1974"/>
                  </a:lnTo>
                  <a:lnTo>
                    <a:pt x="3049" y="1969"/>
                  </a:lnTo>
                  <a:lnTo>
                    <a:pt x="3051" y="1139"/>
                  </a:lnTo>
                  <a:lnTo>
                    <a:pt x="2160" y="1141"/>
                  </a:lnTo>
                  <a:lnTo>
                    <a:pt x="2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>
                <a:alpha val="51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72120" y="3664080"/>
              <a:ext cx="121104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400" y="365904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1200" y="3174840"/>
              <a:ext cx="13557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34040" y="2398680"/>
              <a:ext cx="109836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isp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43040" y="1438200"/>
              <a:ext cx="1077120" cy="64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405160" y="2471760"/>
              <a:ext cx="576000" cy="576360"/>
              <a:chOff x="2405160" y="2471760"/>
              <a:chExt cx="576000" cy="57636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5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05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05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05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05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05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05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05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424160" y="2471760"/>
              <a:ext cx="576000" cy="576360"/>
              <a:chOff x="1424160" y="2471760"/>
              <a:chExt cx="576000" cy="576360"/>
            </a:xfrm>
          </p:grpSpPr>
          <p:sp>
            <p:nvSpPr>
              <p:cNvPr id="246" name=""/>
              <p:cNvSpPr/>
              <p:nvPr/>
            </p:nvSpPr>
            <p:spPr>
              <a:xfrm>
                <a:off x="1424160" y="24717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24160" y="25448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424160" y="261612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24160" y="26892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24160" y="275760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24160" y="2830680"/>
                <a:ext cx="576000" cy="72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4160" y="290196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24160" y="2975040"/>
                <a:ext cx="57600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4926240" y="2530440"/>
              <a:ext cx="1196640" cy="3733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34" idx="2"/>
              <a:endCxn id="231" idx="0"/>
            </p:cNvCxnSpPr>
            <p:nvPr/>
          </p:nvCxnSpPr>
          <p:spPr>
            <a:xfrm flipH="1">
              <a:off x="3976200" y="3041280"/>
              <a:ext cx="5760" cy="6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6" name=""/>
            <p:cNvCxnSpPr>
              <a:stCxn id="233" idx="1"/>
              <a:endCxn id="232" idx="0"/>
            </p:cNvCxnSpPr>
            <p:nvPr/>
          </p:nvCxnSpPr>
          <p:spPr>
            <a:xfrm flipV="1" rot="10800000">
              <a:off x="2297880" y="3495240"/>
              <a:ext cx="2445480" cy="16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7" name=""/>
            <p:cNvCxnSpPr>
              <a:stCxn id="234" idx="3"/>
              <a:endCxn id="254" idx="1"/>
            </p:cNvCxnSpPr>
            <p:nvPr/>
          </p:nvCxnSpPr>
          <p:spPr>
            <a:xfrm flipV="1">
              <a:off x="4528800" y="2715480"/>
              <a:ext cx="3992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8" name=""/>
            <p:cNvCxnSpPr>
              <a:stCxn id="235" idx="2"/>
              <a:endCxn id="234" idx="0"/>
            </p:cNvCxnSpPr>
            <p:nvPr/>
          </p:nvCxnSpPr>
          <p:spPr>
            <a:xfrm>
              <a:off x="3981600" y="2081160"/>
              <a:ext cx="216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9" name=""/>
            <p:cNvSpPr/>
            <p:nvPr/>
          </p:nvSpPr>
          <p:spPr>
            <a:xfrm>
              <a:off x="1270440" y="1947960"/>
              <a:ext cx="88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Job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15800" y="194796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Host P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69520" y="620640"/>
              <a:ext cx="164772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RMAA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09440" y="620640"/>
              <a:ext cx="542880" cy="373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2"/>
              <a:endCxn id="235" idx="0"/>
            </p:cNvCxnSpPr>
            <p:nvPr/>
          </p:nvCxnSpPr>
          <p:spPr>
            <a:xfrm>
              <a:off x="2293920" y="993240"/>
              <a:ext cx="1689840" cy="44532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4" name=""/>
            <p:cNvCxnSpPr>
              <a:stCxn id="262" idx="2"/>
              <a:endCxn id="235" idx="0"/>
            </p:cNvCxnSpPr>
            <p:nvPr/>
          </p:nvCxnSpPr>
          <p:spPr>
            <a:xfrm>
              <a:off x="3979440" y="957240"/>
              <a:ext cx="2520" cy="48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65" name=""/>
            <p:cNvSpPr/>
            <p:nvPr/>
          </p:nvSpPr>
          <p:spPr>
            <a:xfrm>
              <a:off x="1373760" y="1393920"/>
              <a:ext cx="153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ridWay 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2160" y="4343400"/>
              <a:ext cx="6024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37080" y="379404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GridW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Arial Narrow"/>
                </a:rPr>
                <a:t>admin. ac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3520" y="5473800"/>
            <a:ext cx="1485360" cy="912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1240" y="5473800"/>
            <a:ext cx="1236960" cy="912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2080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Grid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R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368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pre-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4379760"/>
            <a:ext cx="522360" cy="43344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61040" y="3198960"/>
            <a:ext cx="1079640" cy="19836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MDS2 (Globus)</a:t>
            </a: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61040" y="3414600"/>
            <a:ext cx="1079640" cy="19872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MDS2 (GLUE)</a:t>
            </a: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61040" y="3629160"/>
            <a:ext cx="1079640" cy="198360"/>
          </a:xfrm>
          <a:prstGeom prst="rect">
            <a:avLst/>
          </a:prstGeom>
          <a:solidFill>
            <a:srgbClr val="005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 Narrow"/>
              </a:rPr>
              <a:t>MD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760" y="434664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56ac"/>
                </a:solidFill>
                <a:latin typeface="Arial Narrow"/>
              </a:rPr>
              <a:t>Middleware Access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9880" y="43657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 Narrow"/>
              </a:rPr>
              <a:t>Us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72320" y="3054240"/>
            <a:ext cx="1381680" cy="912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64440" y="3330720"/>
            <a:ext cx="360360" cy="360360"/>
          </a:xfrm>
          <a:custGeom>
            <a:avLst/>
            <a:gdLst>
              <a:gd name="textAreaLeft" fmla="*/ 0 w 360360"/>
              <a:gd name="textAreaRight" fmla="*/ 360720 w 360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6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3674520" y="49626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6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1990440" y="49626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6a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40320" y="1700280"/>
            <a:ext cx="2303640" cy="649080"/>
          </a:xfrm>
          <a:prstGeom prst="wedgeRectCallout">
            <a:avLst>
              <a:gd name="adj1" fmla="val -49037"/>
              <a:gd name="adj2" fmla="val 173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ource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013360"/>
            <a:ext cx="1657080" cy="863640"/>
          </a:xfrm>
          <a:prstGeom prst="wedgeRectCallout">
            <a:avLst>
              <a:gd name="adj1" fmla="val 53351"/>
              <a:gd name="adj2" fmla="val -132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0720" y="4797360"/>
            <a:ext cx="1657080" cy="1152720"/>
          </a:xfrm>
          <a:prstGeom prst="wedgeRectCallout">
            <a:avLst>
              <a:gd name="adj1" fmla="val -52106"/>
              <a:gd name="adj2" fmla="val -93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b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ob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36520" y="860400"/>
            <a:ext cx="8728200" cy="5305320"/>
          </a:xfrm>
          <a:prstGeom prst="roundRect">
            <a:avLst>
              <a:gd name="adj" fmla="val 4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2033640"/>
            <a:ext cx="6192720" cy="1368360"/>
          </a:xfrm>
          <a:prstGeom prst="roundRect">
            <a:avLst>
              <a:gd name="adj" fmla="val 16667"/>
            </a:avLst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" y="631800"/>
            <a:ext cx="36482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25d"/>
              </a:gs>
              <a:gs pos="50000">
                <a:srgbClr val="fefefe"/>
              </a:gs>
              <a:gs pos="100000">
                <a:srgbClr val="32425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nterprise Grid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92840" y="4846680"/>
            <a:ext cx="76824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916280" y="3760920"/>
            <a:ext cx="1769040" cy="707040"/>
          </a:xfrm>
          <a:prstGeom prst="bentConnector3">
            <a:avLst>
              <a:gd name="adj1" fmla="val 49989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92" name=""/>
          <p:cNvCxnSpPr/>
          <p:nvPr/>
        </p:nvCxnSpPr>
        <p:spPr>
          <a:xfrm>
            <a:off x="1992240" y="3751200"/>
            <a:ext cx="4077360" cy="742320"/>
          </a:xfrm>
          <a:prstGeom prst="bentConnector3">
            <a:avLst>
              <a:gd name="adj1" fmla="val 49995"/>
            </a:avLst>
          </a:prstGeom>
          <a:ln w="7632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 flipV="1">
            <a:off x="1916280" y="3133800"/>
            <a:ext cx="1440" cy="619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/>
          <p:nvPr/>
        </p:nvCxnSpPr>
        <p:spPr>
          <a:xfrm>
            <a:off x="2452680" y="3887640"/>
            <a:ext cx="2160" cy="558000"/>
          </a:xfrm>
          <a:prstGeom prst="bentConnector3">
            <a:avLst>
              <a:gd name="adj1" fmla="val 4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>
            <a:off x="2529000" y="3908520"/>
            <a:ext cx="1692720" cy="581400"/>
          </a:xfrm>
          <a:prstGeom prst="bentConnector3">
            <a:avLst>
              <a:gd name="adj1" fmla="val 49989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96" name=""/>
          <p:cNvCxnSpPr/>
          <p:nvPr/>
        </p:nvCxnSpPr>
        <p:spPr>
          <a:xfrm>
            <a:off x="2428920" y="3908160"/>
            <a:ext cx="4178520" cy="594360"/>
          </a:xfrm>
          <a:prstGeom prst="bentConnector3">
            <a:avLst>
              <a:gd name="adj1" fmla="val 50000"/>
            </a:avLst>
          </a:prstGeom>
          <a:ln w="7632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 flipV="1">
            <a:off x="2760840" y="3133440"/>
            <a:ext cx="1440" cy="755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/>
          <p:nvPr/>
        </p:nvCxnSpPr>
        <p:spPr>
          <a:xfrm flipV="1" rot="10800000">
            <a:off x="2915640" y="3614400"/>
            <a:ext cx="1229400" cy="83088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>
            <a:off x="3300120" y="3614760"/>
            <a:ext cx="1384920" cy="853200"/>
          </a:xfrm>
          <a:prstGeom prst="bentConnector3">
            <a:avLst>
              <a:gd name="adj1" fmla="val 50000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>
            <a:off x="3068640" y="3614400"/>
            <a:ext cx="4001040" cy="878760"/>
          </a:xfrm>
          <a:prstGeom prst="bentConnector3">
            <a:avLst>
              <a:gd name="adj1" fmla="val 49995"/>
            </a:avLst>
          </a:prstGeom>
          <a:ln w="7632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 flipV="1">
            <a:off x="3719520" y="3133800"/>
            <a:ext cx="1440" cy="4888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9560" y="5322960"/>
            <a:ext cx="48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GLOBUS ENTERPRISE GRID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6160" y="2314440"/>
            <a:ext cx="208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TE-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TA-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8120" y="4992840"/>
            <a:ext cx="1536840" cy="206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8120" y="4745160"/>
            <a:ext cx="1536840" cy="206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GE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89160" y="4495680"/>
            <a:ext cx="460440" cy="206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84520" y="4495680"/>
            <a:ext cx="460440" cy="206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17840" y="4495680"/>
            <a:ext cx="537840" cy="206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6280" y="3722760"/>
            <a:ext cx="1440" cy="7128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76440" y="5002200"/>
            <a:ext cx="153684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76440" y="4754520"/>
            <a:ext cx="1536840" cy="203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BS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57480" y="4505400"/>
            <a:ext cx="46224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2840" y="450540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86160" y="450540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72240" y="5002200"/>
            <a:ext cx="1536480" cy="20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ESOURCE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72240" y="4754520"/>
            <a:ext cx="1536480" cy="203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LSF 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53280" y="4505400"/>
            <a:ext cx="460440" cy="2048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R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48640" y="4505400"/>
            <a:ext cx="460080" cy="2048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80160" y="4505400"/>
            <a:ext cx="538200" cy="2048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14520" y="2722680"/>
            <a:ext cx="768240" cy="4125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20920" y="2722680"/>
            <a:ext cx="924120" cy="412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83200" y="2722680"/>
            <a:ext cx="885600" cy="41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17840" y="2414520"/>
            <a:ext cx="3450960" cy="276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idWay dae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00560" y="1700280"/>
            <a:ext cx="768240" cy="2746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USER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92560" y="1866960"/>
            <a:ext cx="928440" cy="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84720" y="2106720"/>
            <a:ext cx="762120" cy="276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LI &amp;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608120" y="2106720"/>
            <a:ext cx="1625760" cy="279360"/>
            <a:chOff x="1608120" y="2106720"/>
            <a:chExt cx="1625760" cy="279360"/>
          </a:xfrm>
        </p:grpSpPr>
        <p:sp>
          <p:nvSpPr>
            <p:cNvPr id="328" name=""/>
            <p:cNvSpPr/>
            <p:nvPr/>
          </p:nvSpPr>
          <p:spPr>
            <a:xfrm>
              <a:off x="1608120" y="2106720"/>
              <a:ext cx="763560" cy="276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71760" y="2111400"/>
              <a:ext cx="762120" cy="274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LI &amp; 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608120" y="1700280"/>
            <a:ext cx="1631880" cy="277920"/>
            <a:chOff x="1608120" y="1700280"/>
            <a:chExt cx="1631880" cy="277920"/>
          </a:xfrm>
        </p:grpSpPr>
        <p:sp>
          <p:nvSpPr>
            <p:cNvPr id="331" name=""/>
            <p:cNvSpPr/>
            <p:nvPr/>
          </p:nvSpPr>
          <p:spPr>
            <a:xfrm>
              <a:off x="1608120" y="1700280"/>
              <a:ext cx="768240" cy="274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1760" y="1704960"/>
              <a:ext cx="768240" cy="2732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US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619280" y="2720880"/>
            <a:ext cx="768240" cy="4129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920" y="4572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Relation to other Globus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cho</cp:lastModifiedBy>
  <cp:revision>0</cp:revision>
  <dc:subject/>
  <dc:title>PowerPoint Presentation</dc:title>
</cp:coreProperties>
</file>